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886B-3BFE-4B52-B99E-621D96F2735C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148-9AF5-49B0-AA56-A3C0EB198A5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141D-6E9F-4D3B-A1CF-1A564022DF7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9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0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9144000" y="266760"/>
            <a:ext cx="344160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0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8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6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4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IP Federation 101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ederation of Earth Science Information Partn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January 4, 2012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39" name="Picture 3" descr=""/>
          <p:cNvPicPr/>
          <p:nvPr/>
        </p:nvPicPr>
        <p:blipFill>
          <a:blip r:embed="rId1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 ESIP’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Ongoing activiti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luste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rt a new one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orking group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wice-yearly meeting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tten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xt: July 16-20, 2012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3" marL="15199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Madison, Wisconsi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sent a talk or poster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a sess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Partnership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Joi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nvite your colleagu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Host a summer meet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nsider ‘running’ for offic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Key Contac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SIP Elected Officials (annual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sident – Chris Lenhardt (2011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ce-President – Karl Benedict (2011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SIP type representat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ittee chai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undation for Earth Scienc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ecutive Director – Carol Mey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formation and Virtual Community Director – Erin Robins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IP Onlin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me p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http://esipfed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ki (primary collaborative spac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http://wiki.esipfed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acebook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tinyurl.com/esip-faceboo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witt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#esipf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lobal Change Master Direc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ESIP data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ESIP services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45760" y="50036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231840" indent="-231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ir Quality (AQ) Cluster starts, eventually becomes a Working Group and becomes the GEO AQ Community of Practic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Q cluster submits a mini-grant proposal to fund development of a twitter feed aggregator that monitored air quality even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31840" indent="-231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KML translator developed by ESIP member to convert geospatial data into KML for rendering into Google Earth. Translator code gets picked up and reused by other member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31840" indent="-231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Discovery Cluster forms to look at data search, retrieval and access services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oal is to review existing services to assess commonalities, differences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veloped a governance model that allowed for community review, comment of existing service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ulting in community-based conventions related to data discove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ao of ESIP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We are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..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➜ </a:t>
            </a: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Community-drive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mbers are the author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olunt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requiremen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remuner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r the good of the order</a:t>
            </a: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eographic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pic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unction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pe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gial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utral foru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We value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..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rticip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hare your expertis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everage others’ expertis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courage free flow of idea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ＭＳ Ｐゴシック"/>
              </a:rPr>
              <a:t>Exposure → opportuniti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labo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munities of practice</a:t>
            </a: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nov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institutional barri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ults for $5K!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Hybrid virtual and ‘real’ organiz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ision Pillar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provides the Earth science informatics intellectual commons to drive innovat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is the trusted community authority that supports the integration of science and data into mainstream us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leads the development of the science data information profess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achieves sustainability through diversification, global partnerships and partner recognit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med in 1998 by NAS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Academy report recommended the creation of a fede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24 original 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ing Prototypes-ESIPs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72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2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72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2 applica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ter expanded to include NASA DAA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4" marL="3344400" indent="0">
              <a:spcBef>
                <a:spcPts val="6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titutional Convention</a:t>
            </a:r>
            <a:r>
              <a:rPr b="0" lang="ja-JP" sz="3400" spc="-1" strike="noStrike">
                <a:solidFill>
                  <a:srgbClr val="606060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(1999-2000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stitution and Bylaw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4" marL="3344400" indent="0">
              <a:spcBef>
                <a:spcPts val="6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ndation for Earth Science (2001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nprofit 501(c)(3) corpo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Federation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 secretari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artner Typ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: data centers (21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SA DAAC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AA (NGDC, NODC, NCDC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I: researchers and tool developers (51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ademi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overnment lab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4968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II: application developers (51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mmerci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nprofi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ducation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V: strategic partners (2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S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A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ssembly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1 partner, 1 vot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nnual meeting in J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eadership elected from Assembly representativ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mmitte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elected by Assembl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serves on</a:t>
            </a:r>
            <a:br>
              <a:rPr sz="3200"/>
            </a:b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ive Committe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ing group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d by</a:t>
            </a:r>
            <a:br>
              <a:rPr sz="3200"/>
            </a:b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ssembly or Committe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ask-orient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luster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f-form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any reas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nds when the last person hangs up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8360" y="2133720"/>
            <a:ext cx="59310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ing 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duc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nformation Technology and Interoperabilit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ducts and Servic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dministrative 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stitution and Bylaw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inance and Appropria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artnership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578280" y="21337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orking group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ir Qua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Edu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sione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luste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er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cis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ederated Search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fo Qua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servation &amp; Stewardshi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mantic Web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sualiz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 ESIP’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ee ESIP Federation community engagement opportunities in your packet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ign up during poster sess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Talk to committee, working group, cluster leads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Open invitation to get involved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7:23:26Z</dcterms:created>
  <dc:creator/>
  <dc:description/>
  <cp:keywords/>
  <dc:language>en-US</dc:language>
  <cp:lastModifiedBy>Carol Meyer</cp:lastModifiedBy>
  <dcterms:modified xsi:type="dcterms:W3CDTF">2012-01-12T16:48:49Z</dcterms:modified>
  <cp:revision>32</cp:revision>
  <dc:subject/>
  <dc:title>ESIP Federation 101</dc:title>
</cp:coreProperties>
</file>